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A9A-C774-41DA-B7BD-FBFE44AE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DF2-5E8E-443D-A349-31A814E9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935-90E5-4A0E-9066-978C8366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35B-BF56-4EF4-B246-4D70EAC4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2D5-E3A6-4B5C-B6E9-3F987867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FAA-F6BC-48DD-999E-B46A7DDC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779-C833-40C2-BCC0-56A97456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8B7-4F53-4EB9-B0E0-41EF5AC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2EE-1365-4E65-B3CE-47A876D9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8B3-6EB4-4669-A166-875C009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946-0F28-4CA7-9402-1F5CB43C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BEF-8232-4D17-83D7-625919E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0A8F-8D87-4178-81E1-F4EBDE419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eded in a circu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upply (battery) - Provides a voltage differe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he pressure or force which makes the electrons f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s (wires) - Connect the device to the terminal of the battery.  Electrons flow throug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 (light bulb) - Slows the flow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057400"/>
            <a:ext cx="190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990720" cy="57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0560" y="2635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360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838440" cy="474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47960" y="415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723960" cy="43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3640" y="18288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w your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3:40:01Z</dcterms:created>
  <dc:creator>Dan Salazar</dc:creator>
  <dc:description/>
  <dc:language>en-US</dc:language>
  <cp:lastModifiedBy>Dan Salazar</cp:lastModifiedBy>
  <cp:lastPrinted>2011-12-07T14:30:55Z</cp:lastPrinted>
  <dcterms:modified xsi:type="dcterms:W3CDTF">2011-12-07T14:54:34Z</dcterms:modified>
  <cp:revision>3</cp:revision>
  <dc:subject/>
  <dc:title>Introduction to Circuits</dc:title>
</cp:coreProperties>
</file>